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B22-1C33-4127-9EE7-7180C406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NEED NEW IMAGE FILE***  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1CA-6390-401A-B11D-4AE9D47C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4EE-1C82-4B85-9A50-BA45BF8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F76-BC8E-46B9-947B-6B99ED2B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610-30E7-44CA-AC4F-3C2F32CA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A2D0-E9D6-422D-B467-7BCF0FFB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79F9-F141-4B24-98E4-9033F45B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6243-7512-4795-89AD-F7C722B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ECB-CABB-4462-AA2E-6767E7AB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1E9F-7666-459B-9A5C-76DB4048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F1BB-109A-413D-A651-39559F6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3032-47FA-494C-BF15-44B7E73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CD5-4B22-4C51-9B33-EB76801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E0B6-0C64-472B-AD09-286CB9EF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0D71-BF8C-4C37-BD1B-C48CE79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59D9-BAA3-4CA3-9B1C-8F5AD17E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060-254D-40BC-93C6-EF71850D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B5DD-554E-4BC7-8D43-036C141A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6EA-8055-4595-A3CD-13F9111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F00-66D0-4691-B2C5-8633C357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B4C-134C-41F6-AA55-C4D91942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3D6-EBE1-4DA8-A00D-3DC3074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C3C-1315-4E4B-83B0-58F40B5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A10-1F4B-4062-9181-7C8AC75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159-95E9-4BCA-AFD3-8174500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FF83-C66D-48FF-A84B-CA1DFC93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33B4-A594-4A29-8A44-8A4E36BF1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Software and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6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Present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sentations are sequences of slides that usually incorporate text, sound, graphics, and anima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Authoring Soft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uthoring programs link graphics, text, and other objects. They are used to creat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tuto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24280" y="2057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lanning and Managing Projec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re is also software for planning and managing multimedia project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she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ftware is used to develop cost estimates, budgets, and repo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 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control and retrieve information used in pro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ftware is used to coordinate the work of people and tasks to ensure that projects are completed on 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Software Suit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software suite is a group of programs from the same company sold in a single package.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tility Software for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ultimedia developers often need software for specific tasks. These tasks might include: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 capt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con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character recognition (O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Used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veloping a multimedia production requires an array of software to create, edit, and combine text, sounds, and imag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Elements of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fferent software is used to create the various elements of multimedia. These element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and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or aud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for Managing Tex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xt can be created with many program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developers use word processing software to include text in their projects and to create documents about their pro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featured word processors have text formatting capabilities which set the appearance of the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sktop Publishing Progra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publishing programs are sometimes called page layout progra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better at handling the placement of graphics and processing very large docu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for Graphic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software is used for creating, editing, manipulating, and storing graphic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software is also known as image management softwa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rks with still and animated drawings, as well as photograph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for Sound or Video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ost operating systems have the capability of playing sound or video files.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or sound software is used to create or edit music or sound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software is used to edit video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257800" y="2057400"/>
            <a:ext cx="36576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222800" cy="3040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reating a Multimedia Production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fferent kinds of software are used to combine the elements to create a multimedia produc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0680" y="57150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edded sound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05240" y="5715000"/>
            <a:ext cx="17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ed graphic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562720" y="5028840"/>
            <a:ext cx="91440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772400" y="3733560"/>
            <a:ext cx="7632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Design Soft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eb pages are written in a markup language such as HTML or XML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design programs allow you to create Web pages without learning markup langua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urrent word processing and desktop publishing programs let you convert their files to HTML for use in Web pa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browsers are needed to view and use the Web pages on 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0:55:49Z</dcterms:created>
  <dc:creator>Danielle Perkins</dc:creator>
  <dc:description/>
  <dc:language>en-US</dc:language>
  <cp:lastModifiedBy>GLENCOE</cp:lastModifiedBy>
  <dcterms:modified xsi:type="dcterms:W3CDTF">2003-01-04T00:58:14Z</dcterms:modified>
  <cp:revision>10</cp:revision>
  <dc:subject/>
  <dc:title>Chapter 6 Software and Multimedia</dc:title>
</cp:coreProperties>
</file>